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AE3E-B5E0-424D-85BF-4069390680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F937-B662-441E-ACFD-A2A3C9DEB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C594-2DF1-4825-AA5F-73E7C542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D493-2CEE-4A29-B2A2-535C48F2C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BCFE-9538-4380-8F42-82E08AD0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A1AC-C127-40EF-98DD-CF9575A52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E3A2-B55B-400F-B6D4-E702C102B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1DB38-00A2-4AB1-9184-647FC6731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773D-4649-4507-B5FE-BAB1EAE7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48414-9217-4B5B-B62B-1828A5C4D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D8C3-613E-4E08-8993-824EB40A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A244-07B2-4857-A7AE-491252B2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31C4A-1FC3-4C9E-A848-668E60489C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549360"/>
            <a:ext cx="51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undstruktur Präsenta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95640" y="1844640"/>
            <a:ext cx="38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68360" y="292428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2556000" y="134136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wei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42920" y="422100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Fil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it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635280" y="414972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We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50920" y="141300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erte Fol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>
            <a:hlinkClick r:id="rId1" action="ppaction://hlinksldjump"/>
          </p:cNvPr>
          <p:cNvSpPr/>
          <p:nvPr/>
        </p:nvSpPr>
        <p:spPr>
          <a:xfrm>
            <a:off x="6443640" y="4076640"/>
            <a:ext cx="144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um St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556000" y="1268280"/>
            <a:ext cx="273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er wäre der Film, nach dessen Ende wieder zur Folie 2 zurückgesprungen werden soll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5:53:39Z</dcterms:created>
  <dc:creator>Ludger Neumann</dc:creator>
  <dc:description/>
  <dc:language>en-US</dc:language>
  <cp:lastModifiedBy>Ludger Neumann</cp:lastModifiedBy>
  <dcterms:modified xsi:type="dcterms:W3CDTF">2004-07-01T15:54:12Z</dcterms:modified>
  <cp:revision>1</cp:revision>
  <dc:subject/>
  <dc:title>Folie 1</dc:title>
</cp:coreProperties>
</file>