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521215"/>
        <c:axId val="47871630"/>
      </c:barChart>
      <c:catAx>
        <c:axId val="865212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871630"/>
        <c:crosses val="autoZero"/>
        <c:auto val="1"/>
        <c:lblAlgn val="ctr"/>
        <c:lblOffset val="100"/>
        <c:noMultiLvlLbl val="0"/>
      </c:catAx>
      <c:valAx>
        <c:axId val="478716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5212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23ED-D867-4181-9F2C-1BEC45B90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6C23-6FE6-449D-A093-15BBE58E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08F1-0264-442D-BEF9-C7B79AEC5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CB19-03C6-4D56-A90E-65C304918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629C-6C8F-4A25-868D-256BBC16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A386-6C99-41A5-BD26-95C97DE0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CB18-54B0-45FE-8FCC-4A80CDF3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3F30-D1F8-4B73-A4FA-26028639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E143-7A00-4B07-92DC-8194D621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A66C-77D2-4010-8BCD-9E3BC2FD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B6BF-09AA-49E3-9AC6-DED0927C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2714-97CC-4AEF-99B5-9EF47D81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9D8DFE-C01E-4DAD-A9A2-BA9F2CDDBB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